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EC55-E1A4-4210-A494-453192358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7BF9-780F-4D25-B4E2-741E408F9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8A8-BC5C-4859-B29A-BCC82993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0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92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B91A-E5C1-4414-8591-DBA8999A6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C23-5F9D-4B2A-9EE0-F3BF7DE4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0097-1B1B-4F7C-B16B-2229FDBC7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C2FD-AC2F-42EA-9084-A0B86E104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868-1DA6-4BD4-8C0A-E197133A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6368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BF22-A5F0-4141-8D95-F38088B3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1E06-F908-4A20-8F57-78D4ACED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92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3C85-C124-4891-8013-82CE4A7B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0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92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64B-0770-40B7-8D0B-8783FF96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0960" cy="42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1240" indent="-28404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A85C00-D4F5-4CA7-81F0-92BB8DD26B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76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Bibanking Web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763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900000" y="1341360"/>
            <a:ext cx="7373880" cy="4562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otificación Elect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75248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cccc00"/>
                </a:solidFill>
                <a:latin typeface="Times New Roman"/>
              </a:rPr>
              <a:t>Ejemplo  Nota de Crèdito / Deb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76320" y="130968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533520"/>
            <a:ext cx="5280120" cy="3038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90720" y="12952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547640" y="3429000"/>
            <a:ext cx="5562720" cy="29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990720" y="228600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76720" y="2286000"/>
            <a:ext cx="6858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2428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48520" y="609480"/>
            <a:ext cx="2438280" cy="2819520"/>
          </a:xfrm>
          <a:prstGeom prst="leftArrowCallout">
            <a:avLst>
              <a:gd name="adj1" fmla="val 28911"/>
              <a:gd name="adj2" fmla="val 28909"/>
              <a:gd name="adj3" fmla="val 16667"/>
              <a:gd name="adj4" fmla="val 66673"/>
            </a:avLst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838080"/>
            <a:ext cx="1447560" cy="21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l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De Nota de Crédito o Débito puede ser el mismo  para el cliente y para el provee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ste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#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aparece en el Estado de cuenta de amb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Búsqueda de Convenios a utiliz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1544760"/>
            <a:ext cx="7704000" cy="4189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773360"/>
            <a:ext cx="8785440" cy="3743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70600" cy="14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Tipos de convenios en proveedor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4427640" cy="3240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4500720" y="1989000"/>
            <a:ext cx="4643280" cy="32403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Importación de arch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836640"/>
            <a:ext cx="8424720" cy="2293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50920" y="3284640"/>
            <a:ext cx="8462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ngreso Ma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7632720" cy="28256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7632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770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mportacion cheque Caja / Vouc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6696360" cy="3024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826920" y="476280"/>
            <a:ext cx="6697800" cy="2565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Importación Crédit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2521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3068640"/>
            <a:ext cx="9144000" cy="27367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utorización de L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63640" y="692280"/>
            <a:ext cx="5256360" cy="1209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1916280"/>
            <a:ext cx="9144000" cy="3851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770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Bibanking We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rge Roberto Ortega Chacon</dc:creator>
  <dc:description/>
  <dc:language>en-US</dc:language>
  <cp:lastModifiedBy>ogarrido</cp:lastModifiedBy>
  <dcterms:modified xsi:type="dcterms:W3CDTF">2008-06-09T23:12:44Z</dcterms:modified>
  <cp:revision>4</cp:revision>
  <dc:subject/>
  <dc:title>Pago Proveedores</dc:title>
</cp:coreProperties>
</file>